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hyperlink" Target="http://www.linguee.com/" TargetMode="External"/><Relationship Id="rId2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524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</a:rPr>
              <a:t>LIÇÃO 3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onjugue os verbos das orações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69720" y="1536480"/>
            <a:ext cx="10464840" cy="679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Nós________ na Bunge. (trabalhar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u _______ muito a trabalho. (viajar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le ______ de muitas reuniões. (participar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Você _____ diretor de marketing. (ser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las _____ secretárias. (ser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 gente ______ na Bunge. (estar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Vocês ______ na aula de português. (estar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111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eses do Ano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63280" y="1600200"/>
            <a:ext cx="10464840" cy="731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janeiro - Janeiro é o primeiro mês do ano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fevereiro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março - O carnaval brasileiro acontece em fevereiro ou janeiro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abril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maio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junho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julho 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agosto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setembro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outubro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novembro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60000"/>
              </a:lnSpc>
              <a:spcBef>
                <a:spcPts val="29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dezembro - Dezembro é o último mês do ano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83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lossário - Página 2 (Editorial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72840" y="1028520"/>
            <a:ext cx="10464840" cy="866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negócio - business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fertilizantes - fertilizes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açúcar &amp; bioenergia - sugar &amp; bioenergy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mercado - market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memória viva - living memory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especial - special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sustentabilidade - sustainability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relatório - report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empreendedorismo - entrepreneurship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molas propulsoras - Springboard, propulsion, drivers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fábrica - factory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o mais completo parque industrial - the most complete industrial site/park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alimentos e ingredients - food and food ingredients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da mais alta tecnologia - the highest technology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padrão de qualidade - the quality standard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inovadora ação - innovative action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para fomentar - to promot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capacitação de recursos para o produtor - training to producer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títulos de crédito - credit bonds, debts securities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CRA Certificado de Recebíveis do Agronegócio - agrobusiness receivables certificat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do campo à mesa - from the fields to our table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negócio - business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"/>
              </a:lnSpc>
              <a:spcBef>
                <a:spcPts val="2999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colaborador - employe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5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"/>
          <p:cNvSpPr/>
          <p:nvPr/>
        </p:nvSpPr>
        <p:spPr>
          <a:xfrm>
            <a:off x="7353360" y="9350280"/>
            <a:ext cx="3794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Site de tradução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halkboard"/>
                <a:ea typeface="Chalkboard"/>
                <a:hlinkClick r:id="rId25"/>
              </a:rPr>
              <a:t>www.linguee.com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95720" y="4092840"/>
            <a:ext cx="1200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Chalkboard"/>
                <a:ea typeface="Chalkboard"/>
              </a:rPr>
              <a:t>http://www.youtube.com/watch?v=Lb9tjr4IGmU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"/>
          <p:cNvSpPr/>
          <p:nvPr/>
        </p:nvSpPr>
        <p:spPr>
          <a:xfrm>
            <a:off x="2124000" y="2911680"/>
            <a:ext cx="8740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Vídeo Institucional Bunge do Brasil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09400" y="10029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erguntas?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...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té a próxima aula!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oa noite!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